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31B-CAB3-49C8-B725-3904FA8C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113-35BD-47FD-8329-5AB4BC8D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BD2-F1CC-4565-9FD6-473FE8B8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A36-88A1-46F2-95CA-046DA1C7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6445-02D9-4A93-AABB-BA39955E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AC45-770B-4EFB-9129-602EE3F4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7069-3926-448C-8586-D99528D2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ED6E-BE89-4720-A221-E7D24E8A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A635-4E13-4D2E-A098-69289197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3FD8-8914-400C-A04C-93FF184F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5530-7C58-46DD-9D33-FF435975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38E-26EF-4C8F-AE01-08CC310F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F199-0230-45FB-9471-B7280C6C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004E-EBF2-43E1-964E-DED8934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FF8D-BB6E-470A-9F23-2E911E00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944E-B1A4-4B6D-A5F2-05004A77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C45F-BBDC-422D-A43E-B9DE5394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B9F-AB60-474A-839E-9B6D434C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034-29A9-41A9-94D7-C24DBAA8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D35-E10A-4087-A2C9-741E5A2F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0B4-7360-4BE8-9DC9-2D4F132D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8AD-45D0-4C0C-BECD-3EFC3C9A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7E7-517B-4D1D-A270-37A2EEF2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DB4-4928-4A74-BC29-D55890E4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9A87-5D15-460C-9B80-255E308922D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ECCC-6977-42DB-B299-7CEE967304A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42200" cy="2778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20 Humo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123640" y="3357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ening and spe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1905120"/>
            <a:ext cx="609480" cy="5331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57240">
            <a:solidFill>
              <a:srgbClr val="84547a"/>
            </a:solidFill>
            <a:miter/>
          </a:ln>
        </p:spPr>
      </p:pic>
      <p:pic>
        <p:nvPicPr>
          <p:cNvPr id="2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95680" y="1309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47386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66236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4648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3860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70200" y="2982960"/>
            <a:ext cx="5537160" cy="360"/>
            <a:chOff x="1870200" y="2982960"/>
            <a:chExt cx="5537160" cy="360"/>
          </a:xfrm>
        </p:grpSpPr>
        <p:sp>
          <p:nvSpPr>
            <p:cNvPr id="237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53280" y="6248520"/>
            <a:ext cx="762120" cy="609480"/>
          </a:xfrm>
          <a:prstGeom prst="leftArrow">
            <a:avLst>
              <a:gd name="adj1" fmla="val 50000"/>
              <a:gd name="adj2" fmla="val 3126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286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 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talking  about your favorite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comedians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341360"/>
          <a:ext cx="8351640" cy="4405320"/>
        </p:xfrm>
        <a:graphic>
          <a:graphicData uri="http://schemas.openxmlformats.org/drawingml/2006/table">
            <a:tbl>
              <a:tblPr/>
              <a:tblGrid>
                <a:gridCol w="6553080"/>
                <a:gridCol w="1798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ences before being a come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to begin the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s of his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s why you like 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286000" y="228600"/>
              <a:ext cx="48769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ff0000"/>
                  </a:solidFill>
                  <a:latin typeface="Monotype Corsiva"/>
                </a:rPr>
                <a:t>Art of Life</a:t>
              </a:r>
              <a:r>
                <a:rPr b="1" lang="en-US" sz="8000" spc="-1" strike="noStrike">
                  <a:solidFill>
                    <a:srgbClr val="ff0000"/>
                  </a:solidFill>
                  <a:latin typeface="Monotype Corsiva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0" y="2666880"/>
              <a:ext cx="9143640" cy="2209680"/>
              <a:chOff x="0" y="2666880"/>
              <a:chExt cx="9143640" cy="2209680"/>
            </a:xfrm>
          </p:grpSpPr>
          <p:pic>
            <p:nvPicPr>
              <p:cNvPr id="2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666880"/>
                <a:ext cx="20520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1680" y="2666880"/>
                <a:ext cx="223344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85000" y="2666880"/>
                <a:ext cx="23058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38960" y="2666880"/>
                <a:ext cx="270468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74720"/>
                <a:ext cx="20520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11680" y="3474720"/>
                <a:ext cx="223344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5000" y="3474720"/>
                <a:ext cx="23058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38960" y="3474720"/>
                <a:ext cx="270468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4150440"/>
                <a:ext cx="20520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011680" y="4167360"/>
                <a:ext cx="22334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85000" y="4150440"/>
                <a:ext cx="23058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38960" y="4167360"/>
                <a:ext cx="270468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"/>
            <p:cNvGrpSpPr/>
            <p:nvPr/>
          </p:nvGrpSpPr>
          <p:grpSpPr>
            <a:xfrm>
              <a:off x="8001000" y="228600"/>
              <a:ext cx="990720" cy="685440"/>
              <a:chOff x="8001000" y="228600"/>
              <a:chExt cx="990720" cy="685440"/>
            </a:xfrm>
          </p:grpSpPr>
          <p:pic>
            <p:nvPicPr>
              <p:cNvPr id="25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01000" y="228600"/>
                <a:ext cx="990720" cy="22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001000" y="620280"/>
                <a:ext cx="990720" cy="29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001000" y="424440"/>
                <a:ext cx="990720" cy="21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2" name="" descr=""/>
            <p:cNvPicPr/>
            <p:nvPr/>
          </p:nvPicPr>
          <p:blipFill>
            <a:blip r:embed="rId17"/>
            <a:stretch/>
          </p:blipFill>
          <p:spPr>
            <a:xfrm>
              <a:off x="2286000" y="1447920"/>
              <a:ext cx="4114800" cy="833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0" y="2057400"/>
              <a:ext cx="9144000" cy="48006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228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7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ask 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: interview (pair 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One plays the part of Zhu Jun and the other a comedian. Zhu Jun now has invited the co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to attend the program </a:t>
            </a:r>
            <a:r>
              <a:rPr b="1" i="1" lang="en-US" sz="2800" spc="-1" strike="noStrike">
                <a:solidFill>
                  <a:srgbClr val="bd0f0b"/>
                </a:solidFill>
                <a:latin typeface="Comic Sans MS"/>
              </a:rPr>
              <a:t>art of life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2286000"/>
            <a:ext cx="8664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llowing questions may be helpf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did you begin your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do you usually do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 doing at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r plans for your next 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make people la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will you stop working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028000" y="4724280"/>
            <a:ext cx="1116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e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333360"/>
            <a:ext cx="4647960" cy="6237000"/>
          </a:xfrm>
          <a:prstGeom prst="rect">
            <a:avLst/>
          </a:prstGeom>
          <a:solidFill>
            <a:srgbClr val="a36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f66"/>
                </a:solidFill>
                <a:latin typeface="Times New Roman"/>
              </a:rPr>
              <a:t>Here is a sample interview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Hello. I’m Zhu Jun. Welcome to our program. May I ask you some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S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en did you begin your performanc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In 1985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at do you usually do as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I’m so glad you accepted my interview. And I hope your performance in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be more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Thanks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219640" y="476280"/>
            <a:ext cx="3657600" cy="5263200"/>
            <a:chOff x="5219640" y="476280"/>
            <a:chExt cx="3657600" cy="5263200"/>
          </a:xfrm>
        </p:grpSpPr>
        <p:sp>
          <p:nvSpPr>
            <p:cNvPr id="272" name=""/>
            <p:cNvSpPr/>
            <p:nvPr/>
          </p:nvSpPr>
          <p:spPr>
            <a:xfrm>
              <a:off x="5219640" y="1258560"/>
              <a:ext cx="3657600" cy="4480920"/>
            </a:xfrm>
            <a:prstGeom prst="rect">
              <a:avLst/>
            </a:prstGeom>
            <a:noFill/>
            <a:ln w="57240">
              <a:solidFill>
                <a:srgbClr val="a36f9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ll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m going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intend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plan/want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sh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ve decided (not)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not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9640" y="476280"/>
              <a:ext cx="3651120" cy="642600"/>
            </a:xfrm>
            <a:prstGeom prst="rect">
              <a:avLst/>
            </a:prstGeom>
            <a:solidFill>
              <a:srgbClr val="a36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Useful express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8028000" y="6165720"/>
            <a:ext cx="792000" cy="432000"/>
          </a:xfrm>
          <a:prstGeom prst="leftArrow">
            <a:avLst>
              <a:gd name="adj1" fmla="val 50000"/>
              <a:gd name="adj2" fmla="val 4583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404640"/>
            <a:ext cx="73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ask 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 live show (group 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126828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erform a tongue twister, a joke, a crosstalk or some other programs in the group, then choose the best actor(s) or actress(es) to perform to the whole class. Attention: your performances should be finished within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ask 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omework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Introduce Chinese crosstalk to your foreign pen-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1773360"/>
            <a:ext cx="8351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ok for usefu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hange the information in the group and organize a short pa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t up the passage of each group on the blackboard at the back of the classroom and appreciate the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project should be finished within a week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95280" y="1052640"/>
            <a:ext cx="43178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Thank you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5867280" y="320040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4952880" y="45720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048120" y="266688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797040" y="68580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105520" y="1523880"/>
              <a:ext cx="322092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1143000" y="3352680"/>
              <a:ext cx="22446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480"/>
              <a:ext cx="27036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38160">
            <a:solidFill>
              <a:srgbClr val="a36f98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sp>
          <p:nvSpPr>
            <p:cNvPr id="166" name=""/>
            <p:cNvSpPr/>
            <p:nvPr/>
          </p:nvSpPr>
          <p:spPr>
            <a:xfrm>
              <a:off x="15627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1592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790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3184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49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776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08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04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680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960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430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86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1180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7492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2772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68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7129800" cy="5040360"/>
          </a:xfrm>
          <a:prstGeom prst="rect">
            <a:avLst/>
          </a:prstGeom>
          <a:ln w="57240">
            <a:solidFill>
              <a:srgbClr val="fee0e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2268360" y="57340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laugh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flipH="1" rot="10800000">
            <a:off x="914400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667240" cy="2606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084720" y="476280"/>
            <a:ext cx="1752840" cy="1712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39640" y="476280"/>
            <a:ext cx="1676520" cy="163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564000" y="4653000"/>
            <a:ext cx="685800" cy="66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763640" y="1773360"/>
            <a:ext cx="468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um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24360" y="2997360"/>
            <a:ext cx="3814560" cy="1368000"/>
            <a:chOff x="3924360" y="2997360"/>
            <a:chExt cx="3814560" cy="1368000"/>
          </a:xfrm>
        </p:grpSpPr>
        <p:sp>
          <p:nvSpPr>
            <p:cNvPr id="194" name=""/>
            <p:cNvSpPr/>
            <p:nvPr/>
          </p:nvSpPr>
          <p:spPr>
            <a:xfrm>
              <a:off x="3924360" y="2997360"/>
              <a:ext cx="3814560" cy="136800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65480" y="3270960"/>
              <a:ext cx="35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hum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04920"/>
            <a:ext cx="10058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what performances do we enjoy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0920" y="3213000"/>
            <a:ext cx="3744360" cy="1422720"/>
            <a:chOff x="250920" y="3213000"/>
            <a:chExt cx="3744360" cy="1422720"/>
          </a:xfrm>
        </p:grpSpPr>
        <p:sp>
          <p:nvSpPr>
            <p:cNvPr id="198" name=""/>
            <p:cNvSpPr/>
            <p:nvPr/>
          </p:nvSpPr>
          <p:spPr>
            <a:xfrm>
              <a:off x="250920" y="3213000"/>
              <a:ext cx="3744360" cy="78696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92800" y="3322800"/>
              <a:ext cx="246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66880" y="3879000"/>
              <a:ext cx="428040" cy="1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76720" y="1052640"/>
            <a:ext cx="4066920" cy="2208600"/>
            <a:chOff x="5076720" y="1052640"/>
            <a:chExt cx="4066920" cy="2208600"/>
          </a:xfrm>
        </p:grpSpPr>
        <p:sp>
          <p:nvSpPr>
            <p:cNvPr id="202" name=""/>
            <p:cNvSpPr/>
            <p:nvPr/>
          </p:nvSpPr>
          <p:spPr>
            <a:xfrm>
              <a:off x="5076720" y="1052640"/>
              <a:ext cx="4066920" cy="171864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90560" y="1272960"/>
              <a:ext cx="363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lowns’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397480" y="2525040"/>
              <a:ext cx="427680" cy="73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84360" y="4221000"/>
            <a:ext cx="5638320" cy="1752840"/>
            <a:chOff x="684360" y="4221000"/>
            <a:chExt cx="5638320" cy="1752840"/>
          </a:xfrm>
        </p:grpSpPr>
        <p:sp>
          <p:nvSpPr>
            <p:cNvPr id="206" name=""/>
            <p:cNvSpPr/>
            <p:nvPr/>
          </p:nvSpPr>
          <p:spPr>
            <a:xfrm>
              <a:off x="684360" y="4754520"/>
              <a:ext cx="453996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97000" y="4983120"/>
              <a:ext cx="512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rosstalk show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246840" y="4221000"/>
              <a:ext cx="102492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95280" y="1125360"/>
            <a:ext cx="4541040" cy="2064600"/>
            <a:chOff x="395280" y="1125360"/>
            <a:chExt cx="4541040" cy="2064600"/>
          </a:xfrm>
        </p:grpSpPr>
        <p:sp>
          <p:nvSpPr>
            <p:cNvPr id="210" name=""/>
            <p:cNvSpPr/>
            <p:nvPr/>
          </p:nvSpPr>
          <p:spPr>
            <a:xfrm>
              <a:off x="395280" y="1125360"/>
              <a:ext cx="4308840" cy="173808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1560" y="1365840"/>
              <a:ext cx="4424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ans’    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189960" y="2789280"/>
              <a:ext cx="465840" cy="40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05520" y="4038480"/>
            <a:ext cx="4252320" cy="1998720"/>
            <a:chOff x="5105520" y="4038480"/>
            <a:chExt cx="4252320" cy="1998720"/>
          </a:xfrm>
        </p:grpSpPr>
        <p:sp>
          <p:nvSpPr>
            <p:cNvPr id="214" name=""/>
            <p:cNvSpPr/>
            <p:nvPr/>
          </p:nvSpPr>
          <p:spPr>
            <a:xfrm>
              <a:off x="5105520" y="4495680"/>
              <a:ext cx="403020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63200" y="4724280"/>
              <a:ext cx="409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tongue twister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32960" y="4038480"/>
              <a:ext cx="63180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43640" cy="6781680"/>
            <a:chOff x="0" y="0"/>
            <a:chExt cx="9143640" cy="6781680"/>
          </a:xfrm>
        </p:grpSpPr>
        <p:sp>
          <p:nvSpPr>
            <p:cNvPr id="218" name=""/>
            <p:cNvSpPr/>
            <p:nvPr/>
          </p:nvSpPr>
          <p:spPr>
            <a:xfrm>
              <a:off x="0" y="2590560"/>
              <a:ext cx="914364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914364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914400"/>
              <a:ext cx="914364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4952880"/>
              <a:ext cx="914364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0" y="0"/>
            <a:ext cx="952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sk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:tongue twister competition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28600"/>
            <a:ext cx="8077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listening and story-making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Guess the pictur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Listen to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 Make up your own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07:13:11Z</dcterms:created>
  <dc:creator>Acer</dc:creator>
  <dc:description/>
  <dc:language>en-US</dc:language>
  <cp:lastModifiedBy>Acer</cp:lastModifiedBy>
  <dcterms:modified xsi:type="dcterms:W3CDTF">2005-05-16T04:10:27Z</dcterms:modified>
  <cp:revision>31</cp:revision>
  <dc:subject/>
  <dc:title>高中英语任务型听说研究课</dc:title>
</cp:coreProperties>
</file>